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650-B86D-4467-9BA1-FCD68CE9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11C-5357-48EC-9639-73DA6A16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6D459-EDF7-4C9D-9CD7-024133FD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EC58B-62AF-493E-A106-5B54E5A2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1C469-2FA7-471E-9D1C-345C2A22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10385-6D1D-47D0-A7D1-14EB4397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6A9AE-75DD-4D97-A838-D0450954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B934F-2471-4A69-BBEA-DEC6C3BA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AC486-F3C0-4012-BBEF-26F4F806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2B524-3240-487E-9E17-C9DF3883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C3629-0DD5-4DF9-9493-9C038B4F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01C7E-CC61-4E8F-805C-1F73E4B2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8EB-EF9D-47B4-82FE-53A3C210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C2991-5A9E-46A5-8C93-DB85AE76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EF52C-8829-48FE-937D-90D59AF6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60DDE-256D-4C35-A4CA-162449A5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FB346-0E08-40C4-8CA4-C10CB76E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13773-CF44-4D70-A63E-24FF5CB6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44A21-B6C9-40B8-B250-F119FEA4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25AEC-0C14-4C58-897E-94EE3F3F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61E35-62F3-440C-8D58-F954E356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F56A4-E681-43B3-A9DB-F745DB92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74182-E26C-4F1F-9616-51B5FBF8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129-22DC-4C96-8C2A-B0C6AA7A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11EC8-DA27-4583-9040-11D48C95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E2EB71-4BC4-474E-88F0-67DB21F8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8A683D-6DC6-46C3-B598-16F4A24F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66A110-2BF3-4A45-8810-76EF6131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5E709F-C03B-45FF-A2B7-6C6671C6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B200B8-C4E7-4856-8763-F57FD1F8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DAF80A-DC6D-46AF-83EB-806CD4F9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BF7080-23DC-47AE-BF39-E6B077AD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2B8B25-5272-437A-87A1-BA878825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EF5779-2809-487B-A010-6B51E588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C4C7-BC04-4063-8C0D-E116CD71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63FE90-95EE-42A4-8A35-786E68DD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5A085D-BD5C-418B-AAEA-A7FED257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ACA678-D424-4189-B9A4-7D6D813D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09CEC-1356-4C47-8D1F-691FEE94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53A1C-6BBD-498C-8D59-282E600B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166DF-7862-4689-AA90-5D5D4D54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50597-F850-4D8D-AFDF-532672ED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645AF-6459-47CF-B35C-66E9D4EF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4CE42-596E-46C8-B9DF-52563FB6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1C6FA-AE87-48E8-A127-99F82133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64F4-34F3-4489-A555-FA9D95D8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CFDF1-C907-4EA4-8DEE-22093BAB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6F312-696E-4425-99B9-79C2AD36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57F60-D201-4609-B9EE-00C5877E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D3829-7986-4235-B8E7-EB18988E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45780-FBCD-4265-9920-8162CD0F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C82385-F051-44E4-B4DD-513CB38B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455A6A-8DF3-4E08-8771-D51EF02E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C1830-E476-469E-A77A-E9053B05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4F1BF-A8C9-4F43-B34D-0242AD03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E53C9-74EF-4A92-A37B-23D50986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9914-5848-4B7B-9147-1BB30FA8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64A3A-C067-4E3B-9711-2C95E2BF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D6BBC-6E1B-4CB7-9001-4AD226DB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6C8C7-B01D-49D0-A12A-599B15B1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AE6CD-78FE-4291-896B-16DBA78F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9DB2E-02AE-4089-953C-05112034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D46CEE-6027-46D0-83D0-EC99BCCE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EE7BA-CE5B-4470-B75D-ED9CBC31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C24B-DA4B-4282-A50B-D9982CD6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FF01-EBB1-427B-B90C-15C587D7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9634-D58C-404E-BD9F-927E03BC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9442-D439-499F-97CF-0378D082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FC4F-E40F-4F4C-9DA9-E1294220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AA93-F567-40E9-BCCA-6F705974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75B8-CC0E-448D-B031-0CBC1CEA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E4E0-4F8F-4188-865D-9230E354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EC8C-0284-42B6-8751-394CFC8C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B014-3216-4E1E-AE57-B0278AD6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AC3D0-1CFE-4F58-915A-7990303C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C8794-7983-4C1C-9AAF-D7AE34AD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CB748-ADE9-4BE8-9901-D3E389B2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2F562-3DEC-4BE5-87FD-8F73F23D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1AE59-C718-4674-AD1E-74C6F570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B98-941C-459E-98EB-BBBE21B3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CB6AA-32CF-4D0D-B11D-E2AF608B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8EE7C-682B-4999-862C-49D694C9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ABD36-5E99-4BF0-8282-1F51831A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DF2D3-4A6C-4677-BF0F-0E29E87C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D46A7-F7A8-40AD-95FC-A68FE934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E177F-59C6-4D07-8058-B619EB73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CA975-92ED-43BE-908B-9214107D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CAF6B-79FC-4979-9B3A-F691ED7A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CB984-C5B4-46FB-8492-6E2C9B6B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CA8D0-60C7-440C-8495-3C8F3A23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C78-0C2F-4920-A55C-4324E2FA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AF24E-D12A-4D72-8663-E867E7F7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7992E-F41E-44F3-BC59-20A39E65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79234-D3F3-4420-B3D2-016D67BF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CB3D7-1D98-4DF0-9801-77F447BA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B2EF6-14E6-45E6-8236-41323F8C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C0742-DAF8-4A1C-9AC1-1E9763D9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C68B2-9910-40D5-B8EF-26E6571C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78A6C-C9B2-403C-890A-4AED69C8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8FF89-EB69-4AE7-9223-C0423881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AE2FD-53A3-4E11-9479-C6F23FCF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F74-0B0C-4790-ADB0-C960C641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794C6-021C-4259-A9D3-B97B5392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50627-263D-4C77-9C8E-EA2CE372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B4D3A-BFC8-491C-8CCB-61CA07F7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1EC5B-98D0-4A2A-9C96-A96D084C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3A21E-F834-4118-9712-0019E0A2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99757-266D-4248-B1C2-B0665042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570F2-AB02-44FF-A4C7-6F3A0838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74DC8-62DE-492D-B060-9B0F6F11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BA420-4782-49B4-BB84-5A25C712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665E1-0765-41E1-8B37-FA3B8DEE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2423-EFFE-4084-86E1-B1484528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072BD-8B9E-444B-82AF-5353A098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15691-5E0F-46C1-9C5B-502229ED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68917-3078-4C65-A994-45946402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11DD8-BE05-40E9-91B0-43D9F655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20DF6-E3A0-461A-BC8B-DB6AE4C0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ED7A3-ABB7-4000-AFE0-B39C4E5A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6E705-BD89-48D2-B295-289C4B62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0FE07-322E-45F6-AAE6-53F56EAD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BB187-B348-4AA9-98CB-FA40EE7B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BD51D-618C-4F82-8C0A-CED4E7EA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637-172A-4526-A2AB-FF71FA95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A45A0-2D15-42DA-BACD-EA8CBC10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EE674-00EF-4E81-A968-56843BD4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07222-A85B-4444-9C52-AA4B1942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3B55E-31DF-49AC-B47D-968D445D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0B802-D7C5-4318-9144-223CD39D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AF11D-DAB1-48C7-8223-CA3BBD44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22B24-4677-4ABE-B48C-741D9569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98C22-0FAA-41D4-B4ED-91C1EC13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703AC-574B-4B3E-BA20-DCC34FAD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D7577-3246-4187-972D-E9CEBFE9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7C3-9105-49BB-943C-3DC613F6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6848A-203D-4B11-87D6-F2C1A46C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626BF-732B-466A-9B0C-B5EF1899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8C3FF-D36D-49F0-B40D-DA29B0EC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3A98A-C5D0-4EA9-AAFD-E0A33F17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BB4B1-3B04-4EAF-B5F9-9A32BFA0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2C275-E673-4E18-B8EC-E1B585C3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B8CC8-E1EC-41ED-B5FB-575C9286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9C43D-7760-43A4-B759-B46D997E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9898D-E39E-4CA7-BA5E-6FC97CED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6D1A8-2807-4EF5-A11B-AAF60B89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3452-CDEB-41FF-BFFF-4D4F0740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A4565-4129-49A8-9846-7D8D2F3D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C335D-E37B-4586-A854-00C96BB6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1E184-8DD1-48DB-BA97-FF414AD3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D164A-FDE9-43F5-9129-265C5EBB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94823-837E-4A79-AA93-D7B36950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02B9B-4E71-45FD-A7FF-4C8CE75D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9063F-1A31-4E47-9EE3-270F257C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0D068-24AA-4BD2-89B6-A5823C45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DCC06-1112-4810-934D-F9F82A5D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99039-39AC-4451-B60C-76036B4D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4931-38B4-49EC-B5A1-C150383D33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424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2176-64C8-458C-962F-051318E0935C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471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1ACD-B8EB-4170-AAC0-25A8F3D1FB46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520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E306-4D49-4512-B2E1-D7F1E0D855F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935E-0D5F-4D33-9F90-021BF12E26B9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6C84-E636-426F-84BA-2B10DE01EE9C}" type="slidenum">
              <a:rPr b="0" lang="ru-RU" sz="1200" spc="-1" strike="noStrike">
                <a:solidFill>
                  <a:srgbClr val="564b3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48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91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94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90A5-EF3A-44F6-A879-6CCF2296CE7B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14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7101-E352-4907-81BA-B75D043CA93C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91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5D36-E4D5-445B-8E16-5ED0FE8D9386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240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91EF-7254-4396-9282-4FDB6755820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28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8A34-D04F-4A5B-82BB-E0A886D5965D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57BB-4372-4C0B-8B83-FB371D8FF06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4689-0723-4390-B6F2-4428AA293EE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712800" y="573120"/>
            <a:ext cx="3262320" cy="4638600"/>
          </a:xfrm>
          <a:prstGeom prst="rect">
            <a:avLst/>
          </a:prstGeom>
          <a:ln w="0">
            <a:noFill/>
          </a:ln>
        </p:spPr>
      </p:pic>
      <p:sp>
        <p:nvSpPr>
          <p:cNvPr id="608" name="Прямоугольник 3"/>
          <p:cNvSpPr/>
          <p:nvPr/>
        </p:nvSpPr>
        <p:spPr>
          <a:xfrm>
            <a:off x="4143240" y="642960"/>
            <a:ext cx="45720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  <a:ea typeface="Arial"/>
              </a:rPr>
              <a:t>Фея Фл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гиня цветов и весны. С приходом весны властвовала над всеми живыми существами. Имя образовано от flos ("цветок"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легенде, рассказанной Овидием, в Флору, грудь которой источала цветы, распространявшиеся по окрестностям, превратилась земляная нимфа Хлорида, преследуемая богом западного ветра Фавоние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нашем Зимнем саду Фея Флора заботится и охраняет все цветы и растения. Она дарит им жизнь и крас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ея Флора добрая и очень любит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4"/>
          <p:cNvSpPr/>
          <p:nvPr/>
        </p:nvSpPr>
        <p:spPr>
          <a:xfrm>
            <a:off x="857160" y="52862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а с удовольствием рассказывает удивительные истории про цветы, загадывает загадки и дарит подарки всем де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G:\Зимний сад\фон\a872d9f27776.png"/>
          <p:cNvPicPr/>
          <p:nvPr/>
        </p:nvPicPr>
        <p:blipFill>
          <a:blip r:embed="rId1"/>
          <a:stretch/>
        </p:blipFill>
        <p:spPr>
          <a:xfrm>
            <a:off x="114480" y="428760"/>
            <a:ext cx="8913600" cy="600048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аспорта 5 природных объектов простран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31510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Хлорофиту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928680" y="428760"/>
            <a:ext cx="50403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6009"/>
                </a:solidFill>
                <a:latin typeface="Arial"/>
              </a:rPr>
              <a:t>Родина – Южная Афр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Температура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Умеренная, зимой не ниже 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Освещение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Яркий рассеянный св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лив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бильный с весны до осени, умеренный зи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Влажность воздуха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Летом листья полезно опрыски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0" descr="click?url=http%3A%2F%2Fs"/>
          <p:cNvPicPr/>
          <p:nvPr/>
        </p:nvPicPr>
        <p:blipFill>
          <a:blip r:embed="rId1"/>
          <a:stretch/>
        </p:blipFill>
        <p:spPr>
          <a:xfrm>
            <a:off x="587520" y="1500120"/>
            <a:ext cx="2895480" cy="422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лю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714480" y="71388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96009"/>
                </a:solidFill>
                <a:latin typeface="Arial"/>
              </a:rPr>
              <a:t>Родина – Южная Европа, Северная Африк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Температура: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Ниже умеренной, но не морозна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Освещение: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Яркий свет зимой, летом следует защищать от прямых солнечных луче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Полив: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Обильный летом, зимой умеренны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Влажность воздуха: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Летом требует более частого опрыскивани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8" descr="click?url=http%3A%2F%2Fwww"/>
          <p:cNvPicPr/>
          <p:nvPr/>
        </p:nvPicPr>
        <p:blipFill>
          <a:blip r:embed="rId1"/>
          <a:stretch/>
        </p:blipFill>
        <p:spPr>
          <a:xfrm>
            <a:off x="571680" y="1643040"/>
            <a:ext cx="2714400" cy="4500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Бальзамин, Ванька мокр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96009"/>
                </a:solidFill>
                <a:latin typeface="Arial"/>
              </a:rPr>
              <a:t>Родина – тропические регионы Восточной Аф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мператур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меренная, зимой не ниже 1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; для цветения зимой температура должна быть не ниже 1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вещение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ние светолюбиво, но летом от прямых солнечных лучей его следует оберег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лив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ильный; летом поливают ежедневно, зимой полив уменьш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лажность воздуха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ья следует опрыскивать, избегая попадания воды на цв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7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2857680" cy="39290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35002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Традескан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071960" y="499680"/>
            <a:ext cx="48578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6009"/>
                </a:solidFill>
                <a:latin typeface="Arial"/>
              </a:rPr>
              <a:t>Родина – Брази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Температура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Умеренная, зимой не ниже 8-1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Освещение: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тение светолюбив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лив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бильный с весны до осени, зимой умеренны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Влажность воздуха: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стья следует иногда опрыски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9" descr="click?url=http%3A%2F%2Fwww"/>
          <p:cNvPicPr/>
          <p:nvPr/>
        </p:nvPicPr>
        <p:blipFill>
          <a:blip r:embed="rId1"/>
          <a:stretch/>
        </p:blipFill>
        <p:spPr>
          <a:xfrm>
            <a:off x="571680" y="1571760"/>
            <a:ext cx="2928600" cy="45003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300816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Жасм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000680" y="428760"/>
            <a:ext cx="482904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96009"/>
                </a:solidFill>
                <a:latin typeface="Arial"/>
              </a:rPr>
              <a:t>Родина – Аравия, Инди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Температура: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Зимой содержат при температуре 16-1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Освещение: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растение светолюбиво, но прямых солнечных лучей следует избега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Полив: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Только мягкой водой. Летом почву держат постоянно влажно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Влажность воздуха: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Летом растение часто опрыскивают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7" descr="click?url=http%3A%2F%2Fflamber"/>
          <p:cNvPicPr/>
          <p:nvPr/>
        </p:nvPicPr>
        <p:blipFill>
          <a:blip r:embed="rId1"/>
          <a:stretch/>
        </p:blipFill>
        <p:spPr>
          <a:xfrm>
            <a:off x="357120" y="1857240"/>
            <a:ext cx="3357720" cy="435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Благодарим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2" descr="G:\Анимашки\анимашки\mpositive11.jpg"/>
          <p:cNvPicPr/>
          <p:nvPr/>
        </p:nvPicPr>
        <p:blipFill>
          <a:blip r:embed="rId1"/>
          <a:stretch/>
        </p:blipFill>
        <p:spPr>
          <a:xfrm>
            <a:off x="2500200" y="1643040"/>
            <a:ext cx="4000680" cy="47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06-10T11:04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